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0D51-165F-4089-9208-EC95D596D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0DC9-70E7-47B2-9451-9E629E60E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1315-6DB6-4C08-82C5-1AEB23309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D455-2DE3-458C-925E-4CABC1D75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FD6A-6BAA-409B-853D-A013C1A64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6C99-DA96-414C-9743-1DFEB8B02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EF45-D295-4FA2-8010-8A32C5A00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3DA-C66C-4AB1-ACA5-566AD6A9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EAF-93EE-4E2B-A86E-EA972D3D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CFF-892E-427A-A42C-081738BB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1C1-C2CA-4B0E-8DE9-3B4A4C91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EFA-D843-4331-BB85-1095E27F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73E-6369-4F7B-8D2F-25CF7E0C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61F-A60A-4CAA-AD00-BE6C59C3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794-5A09-4C70-B96C-CFF88BBC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E11-A6EB-4630-944A-D4197FEE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609-3612-4F40-863D-22320993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0D7-35FA-44DB-BAE3-D5F67A95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7861-7B8E-41BD-A28B-897FBA3D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0AB4-74BE-42C4-A72E-84A850B71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5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7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7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39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49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1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3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3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image" Target="../media/image4.png"/><Relationship Id="rId100" Type="http://schemas.openxmlformats.org/officeDocument/2006/relationships/oleObject" Target="../embeddings/oleObject2.bin"/><Relationship Id="rId101" Type="http://schemas.openxmlformats.org/officeDocument/2006/relationships/slide" Target=""/><Relationship Id="rId102" Type="http://schemas.openxmlformats.org/officeDocument/2006/relationships/image" Target="../media/image5.png"/><Relationship Id="rId103" Type="http://schemas.openxmlformats.org/officeDocument/2006/relationships/slideLayout" Target="../slideLayouts/slideLayout1.xml"/><Relationship Id="rId10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New Y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British ruler who Thomas Jefferson called a “Tyran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King George II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21337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was the president of the Second Continental Congress at the time the Declaration of Independence was written and sig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Hancoc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attle on April 19, 1775 marked the beginning of the Revolutionary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attle of Lexington and Concor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18288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orge Washington and his troops crossed this river on December 25, 1776 on their way to battle the Hessians in the Battle of Trent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 is the Delaware Riv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attle of Bunker Hill on June 17, 1775 actually mostly took place w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PART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Breed’s Hi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83 battle was the final battle of the American Revolutionary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attle of Cuddal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12952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 April 24, 1778 this man became a naval hero when he captured the British ship, HMS Drake, in the first victory of an American military vessel in British wa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Paul J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65 act required that printed materials in the colonies carry a tax stam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tamp A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18288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orney James Otis protested against which 1764 British act by using the phrase “Taxation without Representa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ugar A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Quartering Act of 1765 required the colonists to do what for the British sold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Sandler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rovide shelter and food for the British soldiers and their horse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52388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oston Port Act; Massachusetts Government Act; Administration of Justice Act; Quartering Act and Quebec Act were collectively known a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Intolerable Ac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ownshend Acts of 1767 initiated taxes on what i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glass, lead, tea, paper and pai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1337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1775, the Continental Congress appointed which man the commander-in-chief of the American revolutionary fo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orge Washing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16765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rican general famously changed sides during the American Revolution when he attempted to surrender West Point to the Brit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Benedict Arno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3623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ritish commanding general refused to personally surrender to Washington and Rochambeau after the Siege of Yorktown on October 19, 1781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152280" y="9907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Declaration of Indepen-d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9907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volution-ary War Batt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ritish 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r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rench and Indian W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143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mportant 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8"/>
          <p:cNvGraphicFramePr/>
          <p:nvPr/>
        </p:nvGraphicFramePr>
        <p:xfrm>
          <a:off x="1219320" y="0"/>
          <a:ext cx="6669000" cy="99072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8" descr=""/>
                  <p:cNvPicPr/>
                  <p:nvPr/>
                </p:nvPicPr>
                <p:blipFill>
                  <a:blip r:embed="rId99"/>
                  <a:stretch/>
                </p:blipFill>
                <p:spPr>
                  <a:xfrm>
                    <a:off x="1219320" y="0"/>
                    <a:ext cx="6669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100" spid="">
              <p:embed/>
              <p:pic>
                <p:nvPicPr>
                  <p:cNvPr id="161" name="Object 219" descr="">
                    <a:hlinkClick r:id="rId101" action="ppaction://hlinksldjump"/>
                  </p:cNvPr>
                  <p:cNvPicPr/>
                  <p:nvPr/>
                </p:nvPicPr>
                <p:blipFill>
                  <a:blip r:embed="rId102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neral Charles Cornwall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ritish general ordered the execution of Nathan Hale for espio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neral William Ho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371600" y="20574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three American generals were the only ones who served the entire eight years the Revolutionary War la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George Washington, Henry Knox and Nathaniel Gree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ench and Indian War ended with the signing of this treaty on February 10, 176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reaty of Par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ench and Indian War is also known as this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ven Years W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ate in which the Declaration of Independence was ratifi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ring this war Canada was conquered by wh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Great Brita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ar took place from which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54-176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any three Native American allies of the French in the French and Indian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19051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the Abenaki; Algonquin; Caughnawaga Mohawk; Lenape; Mi’kmaq; Ojibwa; Ottawa; Shawnee; and Wyandot? (choose any thre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oston Massacre occurred on this date in 17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rch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 December 16, 1773 colonists in Boston participated in which historic e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oston Tea Par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July 4, 1776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reaty of Paris, signaling the end of the Revolutionary War, was signed on this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eptember 3, 178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tinental Navy was created by the Continental Congress in this month and ye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ctober 177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160020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trick Henry made his infamous “Give me Liberty, or give me Death” speech at St. John’s Church in Richmond Virginia on this d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rch 23, 177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mous Qu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990720" y="2590920"/>
            <a:ext cx="716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than Hale made this famous statement before his hanging by the British on September 22, 1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990720" y="2895480"/>
            <a:ext cx="71625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“I only regret that I have but one life to lose for my country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371600" y="23623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wo members of the “Committee of Five” who were appointed to draft the Declaration of Indepen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re Thomas Jefferson, John Adams, Roger Sherman, Benjamin Franklin &amp; Robert R. Livingston (name any tw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only state that abstained during the vote for independence on July 2, 1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PhilliesChick</cp:lastModifiedBy>
  <dcterms:modified xsi:type="dcterms:W3CDTF">2009-11-09T00:36:15Z</dcterms:modified>
  <cp:revision>64</cp:revision>
  <dc:subject/>
  <dc:title>No Slide Title</dc:title>
</cp:coreProperties>
</file>