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7499-3705-493C-990A-36051530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BA58-8BDD-4724-84F3-B9D3720B0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1320-2A8A-4B56-B90F-9B06738A1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6501-2E75-4437-8787-EF3BE1FD6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6941-183E-48D0-8353-7E999C79A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AD8E-1EA5-43FD-872B-D7DBE9507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2F86-C131-4A52-A645-385A902F4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BF4-9E46-4CF1-8BA5-CCC5131A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F4A-5F86-4CA4-A335-EF37DA0B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42B-3AD3-403C-B972-31F7CA73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A31-A72E-4623-95A1-94242DCC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0A4-CEB2-4BF8-94FC-8347EF02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24D-1A19-44CC-BE62-E3F977E2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3D2-30D3-4ADE-B5DD-A700D44F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B69-74B3-45F3-B808-B956FC98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648-4455-4659-9EDF-DD561160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A11-709A-43AA-80AE-3D128DC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AF4-FCC6-4702-AFBF-3C1EE14E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A8F-5E54-4A42-BAEE-D5CB713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2130-E98A-4FAE-8A83-F86BD8143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49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ew Y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British ruler who Thomas Jefferson called a “Tyra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King George II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president of the Second Continental Congress at the time the Declaration of Independence was written and sig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Hanc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attle on April 19, 1775 marked the beginning of the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Lexington and Conco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Washington and his troops crossed this river on December 25, 1776 on their way to battle the Hessians in the Battle of Trent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 is the Delaware R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attle of Bunker Hill on June 17, 1775 actually mostly took place w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reed’s Hi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83 battle was the final battle of the American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Cuddal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2952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April 24, 1778 this man became a naval hero when he captured the British ship, HMS Drake, in the first victory of an American military vessel in British wa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Paul J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65 act required that printed materials in the colonies carry a tax stam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tamp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James Otis protested against which 1764 British act by using the phrase “Taxation without Representa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ugar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artering Act of 1765 required the colonists to do what for the British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ovide shelter and food for the British soldiers and their hors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52388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Port Act; Massachusetts Government Act; Administration of Justice Act; Quartering Act and Quebec Act were collectively known a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Intolerable Ac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ownshend Acts of 1767 initiated taxes on what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lass, lead, tea, paper and pai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775, the Continental Congress appointed which man the commander-in-chief of the American revolutionary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orge Wash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16765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rican general famously changed sides during the American Revolution when he attempted to surrender West Point to the Brit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Benedict Arn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commanding general refused to personally surrender to Washington and Rochambeau after the Siege of Yorktown on October 19, 1781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152280" y="990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Declaration of Indepen-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9907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volution-ary War Bat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ritish 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ench and Indian W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mportant 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Charles Cornwall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general ordered the execution of Nathan Hale for espi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William Ho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71600" y="20574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American generals were the only ones who served the entire eight years the Revolutionary War la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George Washington, Henry Knox and Nathaniel Gree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ended with the signing of this treaty on February 10, 17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reaty of Par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is also known as this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 Years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te in which the Declaration of Independence was ratifi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ring this war Canada was conquered by 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reat Brit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ar took place from which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54-176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any three Native American allies of the French in the French and Indi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19051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e Abenaki; Algonquin; Caughnawaga Mohawk; Lenape; Mi’kmaq; Ojibwa; Ottawa; Shawnee; and Wyandot? (choose any thre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Massacre occurred on this date in 17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December 16, 1773 colonists in Boston participated in which historic 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oston Tea Par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July 4, 1776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eaty of Paris, signaling the end of the Revolutionary War, was sign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ptember 3, 178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tinental Navy was created by the Continental Congress in this month and y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ctober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0020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ick Henry made his infamous “Give me Liberty, or give me Death” speech at St. John’s Church in Richmond Virginia on this d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23,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ous Qu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990720" y="259092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han Hale made this famous statement before his hanging by the British on September 2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990720" y="2895480"/>
            <a:ext cx="71625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“I only regret that I have but one life to lose for my country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23623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wo members of the “Committee of Five” who were appointed to draft the Declaration of Indepen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omas Jefferson, John Adams, Roger Sherman, Benjamin Franklin &amp; Robert R. Livingston (name any tw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nly state that abstained during the vote for independence on July 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9T00:36:15Z</dcterms:modified>
  <cp:revision>64</cp:revision>
  <dc:subject/>
  <dc:title>No Slide Title</dc:title>
</cp:coreProperties>
</file>