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8C37-43CD-4803-A764-E44CCBBD8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F798-26F4-4B37-A5B5-F3C7D1E5B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CDFB-1F56-48C3-8749-27E382FE4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65BA-7B34-41B3-9AC0-EF055B960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1163-820C-4824-9D8A-762ACD142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2209-57A3-4579-9C67-861E6BBCC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A4D8-F81F-43A9-8066-654E14285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019-2F9C-4B5E-B872-5B7DCFE7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7C5-F8F4-4AA6-99C2-204ED89F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9CB-24EA-4CE3-B9BB-5A0EB38F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284-F766-46FC-820C-F2CF631F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A01-FF5A-4065-9620-99514DB1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30D-A941-4A18-930C-910639B0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A6A-BF80-41F8-AC93-5A410656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FFA-DFBD-4B6B-8ABA-3BFE634D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8D8-DC96-4B29-A1D6-AB217E2B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95A-9538-4B79-92DF-0EEF2CEC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005-22FE-45C0-AEB5-3FF8C5F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D92-E7A5-42A7-AECA-DAF1AE7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055-818C-41D8-B5FE-E9655A9A7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5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7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7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39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49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1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3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3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New Y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British ruler who Thomas Jefferson called a “Tyra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King George II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president of the Second Continental Congress at the time the Declaration of Independence was written and sig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Hanco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attle on April 19, 1775 marked the beginning of the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Lexington and Conco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Washington and his troops crossed this river on December 25, 1776 on their way to battle the Hessians in the Battle of Trent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 is the Delaware Riv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attle of Bunker Hill on June 17, 1775 actually mostly took place w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Breed’s Hi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83 battle was the final battle of the American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Cuddal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12952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April 24, 1778 this man became a naval hero when he captured the British ship, HMS Drake, in the first victory of an American military vessel in British wa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Paul J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65 act required that printed materials in the colonies carry a tax stam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tamp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James Otis protested against which 1764 British act by using the phrase “Taxation without Representa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ugar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artering Act of 1765 required the colonists to do what for the British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rovide shelter and food for the British soldiers and their hors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52388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Port Act; Massachusetts Government Act; Administration of Justice Act; Quartering Act and Quebec Act were collectively known a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Intolerable Ac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ownshend Acts of 1767 initiated taxes on what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glass, lead, tea, paper and pai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775, the Continental Congress appointed which man the commander-in-chief of the American revolutionary fo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orge Wash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16765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rican general famously changed sides during the American Revolution when he attempted to surrender West Point to the Brit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Benedict Arn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commanding general refused to personally surrender to Washington and Rochambeau after the Siege of Yorktown on October 19, 1781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152280" y="9907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Declaration of Indepen-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9907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volution-ary War Batt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ritish 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ench and Indian W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143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mportant 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Charles Cornwall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general ordered the execution of Nathan Hale for espi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William Ho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71600" y="20574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American generals were the only ones who served the entire eight years the Revolutionary War la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George Washington, Henry Knox and Nathaniel Gree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ended with the signing of this treaty on February 10, 176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reaty of Par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is also known as this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 Years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te in which the Declaration of Independence was ratifi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ring this war Canada was conquered by 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reat Brit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ar took place from which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54-176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any three Native American allies of the French in the French and Indi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19051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e Abenaki; Algonquin; Caughnawaga Mohawk; Lenape; Mi’kmaq; Ojibwa; Ottawa; Shawnee; and Wyandot? (choose any thre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Massacre occurred on this date in 17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December 16, 1773 colonists in Boston participated in which historic 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oston Tea Par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July 4, 1776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reaty of Paris, signaling the end of the Revolutionary War, was sign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eptember 3, 178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tinental Navy was created by the Continental Congress in this month and y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ctober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0020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ick Henry made his infamous “Give me Liberty, or give me Death” speech at St. John’s Church in Richmond Virginia on this d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23,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mous Qu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990720" y="259092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than Hale made this famous statement before his hanging by the British on September 2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990720" y="2895480"/>
            <a:ext cx="71625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“I only regret that I have but one life to lose for my country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23623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wo members of the “Committee of Five” who were appointed to draft the Declaration of Indepen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omas Jefferson, John Adams, Roger Sherman, Benjamin Franklin &amp; Robert R. Livingston (name any tw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nly state that abstained during the vote for independence on July 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9T00:36:15Z</dcterms:modified>
  <cp:revision>64</cp:revision>
  <dc:subject/>
  <dc:title>No Slide Title</dc:title>
</cp:coreProperties>
</file>