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53B9-0C57-422D-A0F1-D9FEB0342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2BB8-DB91-45BF-81FD-94E9A3C3F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0A96-9DF8-4551-8851-76CB1664B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18D3-10A6-4AB9-9AF1-903B2CB8C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3461-80B8-4896-BB20-F5BB3727B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2522-08E1-4D50-8D52-7E9FD4A40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FE29-EF1F-403A-A7D1-2C95DFB8A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C0F-7101-4D12-9D3B-1FFA3BEC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E38-26E3-42AB-B70C-72F28B4E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207-BB28-451F-A43C-F57F76A0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A06-20DB-4EE5-A821-31FECD7E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0F6-364D-49AF-98BF-F2CA2CB5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DBB-52B2-4FE7-9963-CF8DDD67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720-8FEB-47A4-A193-00A9AFF1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44C-F783-4B5B-A706-54A3A328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569-3AE6-4907-A68D-DB462FA4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9C0-8552-4058-8DC0-AD5EF3E9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699-D0BC-40F8-A243-200B450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EE8-C689-4FC8-9DF8-DDA85302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6AA2-840D-4246-9359-305710C1B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5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7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7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39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49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1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3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3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New Y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British ruler who Thomas Jefferson called a “Tyran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King George II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president of the Second Continental Congress at the time the Declaration of Independence was written and sig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Hanco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attle on April 19, 1775 marked the beginning of the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Lexington and Conco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Washington and his troops crossed this river on December 25, 1776 on their way to battle the Hessians in the Battle of Trent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 is the Delaware Riv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attle of Bunker Hill on June 17, 1775 actually mostly took place w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Breed’s Hi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83 battle was the final battle of the American Revolutionary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of Cuddal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12952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April 24, 1778 this man became a naval hero when he captured the British ship, HMS Drake, in the first victory of an American military vessel in British wa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Paul J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65 act required that printed materials in the colonies carry a tax stam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tamp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torney James Otis protested against which 1764 British act by using the phrase “Taxation without Representatio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ugar A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Quartering Act of 1765 required the colonists to do what for the British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rovide shelter and food for the British soldiers and their hors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52388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Port Act; Massachusetts Government Act; Administration of Justice Act; Quartering Act and Quebec Act were collectively known as w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Intolerable Ac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ownshend Acts of 1767 initiated taxes on what i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glass, lead, tea, paper and pai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371600" y="21337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1775, the Continental Congress appointed which man the commander-in-chief of the American revolutionary fo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orge Wash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371600" y="16765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rican general famously changed sides during the American Revolution when he attempted to surrender West Point to the Brit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Benedict Arnol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371600" y="23623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commanding general refused to personally surrender to Washington and Rochambeau after the Siege of Yorktown on October 19, 1781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152280" y="99072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Declaration of Indepen-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9907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volution-ary War Batt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ritish 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ench and Indian W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143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mportant 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Charles Cornwall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British general ordered the execution of Nathan Hale for espion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neral William Ho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371600" y="20574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American generals were the only ones who served the entire eight years the Revolutionary War la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George Washington, Henry Knox and Nathaniel Gree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ended with the signing of this treaty on February 10, 176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reaty of Par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rench and Indian War is also known as this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 Years W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ate in which the Declaration of Independence was ratifi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uring this war Canada was conquered by 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reat Brit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war took place from which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54-176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any three Native American allies of the French in the French and Indian W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190512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e Abenaki; Algonquin; Caughnawaga Mohawk; Lenape; Mi’kmaq; Ojibwa; Ottawa; Shawnee; and Wyandot? (choose any thre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ston Massacre occurred on this date in 17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 December 16, 1773 colonists in Boston participated in which historic 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oston Tea Par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July 4, 1776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reaty of Paris, signaling the end of the Revolutionary War, was sign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eptember 3, 178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ntinental Navy was created by the Continental Congress in this month and y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ctober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00200"/>
            <a:ext cx="6324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rick Henry made his infamous “Give me Liberty, or give me Death” speech at St. John’s Church in Richmond Virginia on this d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rch 23, 17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mous Qu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990720" y="259092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than Hale made this famous statement before his hanging by the British on September 2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990720" y="2895480"/>
            <a:ext cx="71625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“I only regret that I have but one life to lose for my country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23623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wo members of the “Committee of Five” who were appointed to draft the Declaration of Indepen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omas Jefferson, John Adams, Roger Sherman, Benjamin Franklin &amp; Robert R. Livingston (name any tw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only state that abstained during the vote for independence on July 2, 17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9T00:36:15Z</dcterms:modified>
  <cp:revision>64</cp:revision>
  <dc:subject/>
  <dc:title>No Slide Title</dc:title>
</cp:coreProperties>
</file>