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38AA-51C5-4250-8711-2757F95DA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8354-88E9-4150-BC8E-4E7933867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3A33-BB77-4B2E-A5D0-F2F981A87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5984-DBB2-4ECD-8AB5-2CD478969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FF15-29FA-4AD6-80F5-72ADA98C0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4069-CE0B-4111-841F-E5C94A387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4A62-2067-4ECC-B4A6-0B19D0ED3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23B-8FF2-4B54-A469-4E8AB4ED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23D-963D-4545-9BD7-A35640AD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9A6-72FE-496B-AFFD-BB963D90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279-BC60-4CE8-91F3-8700543A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417-B80D-4784-AB14-ECE5290C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ABE-3AA5-4ACC-B443-3752E1E3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0E2-C8A6-4E6D-9ADA-0746F59E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5FE-589C-45B2-9852-E354905E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DA8D-1B0E-421F-BA0C-C869A6BC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1FBB-229D-4E39-9C4B-7B993577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1BBC-DBAD-4CD3-94EF-C10871E9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8CED-5AA7-449D-84AB-4002DCE0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4DEB-212F-4C58-8E43-D214A904E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image" Target="../media/image4.png"/><Relationship Id="rId100" Type="http://schemas.openxmlformats.org/officeDocument/2006/relationships/oleObject" Target="../embeddings/oleObject2.bin"/><Relationship Id="rId101" Type="http://schemas.openxmlformats.org/officeDocument/2006/relationships/slide" Target=""/><Relationship Id="rId102" Type="http://schemas.openxmlformats.org/officeDocument/2006/relationships/image" Target="../media/image5.png"/><Relationship Id="rId103" Type="http://schemas.openxmlformats.org/officeDocument/2006/relationships/slideLayout" Target="../slideLayouts/slideLayout1.xml"/><Relationship Id="rId10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ifth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371600" y="24382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states that everyone has the right to a trial by ju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eventh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49280" y="207324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guarantees the right of protection from unreasonable searches and seiz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ourth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ist Party was founded in this 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789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was the type of government the Federalists believed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strong centralized govern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19810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an founded the Federalist Party and was the Secretary of the Treasury under George Washing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PART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Alexander Hamilt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ast Federalist president was this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Ada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ist Party supported the ratification of this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U.S. Constit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371600" y="22096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shington received this percentage of Electoral votes for both his terms as p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100%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shington helped quell the Whiskey Rebellion of 1794 in this 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ennsylv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shington took his first oath of office in 1789 at this building in New York 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s. Sandler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Federal H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members of Washington’s first Cabi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2860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ere Thomas Jefferson, Alexander Hamilton, Henry Knox and Edmund Randolp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514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three states were admitted into the Union during  the Washington presid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Vermont, Kentucky and Tennesse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rst Chief Justice of the Supreme Court was this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J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om 1791 until 1801, the Supreme Court convened in this building in Philadelph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ld City H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Bill of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Federa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06668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George Washington Presid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06668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Supreme Cou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0666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John Adams Presid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rticles of Confedera-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8"/>
          <p:cNvGraphicFramePr/>
          <p:nvPr/>
        </p:nvGraphicFramePr>
        <p:xfrm>
          <a:off x="1219320" y="0"/>
          <a:ext cx="6669000" cy="99072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8" descr=""/>
                  <p:cNvPicPr/>
                  <p:nvPr/>
                </p:nvPicPr>
                <p:blipFill>
                  <a:blip r:embed="rId99"/>
                  <a:stretch/>
                </p:blipFill>
                <p:spPr>
                  <a:xfrm>
                    <a:off x="1219320" y="0"/>
                    <a:ext cx="6669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100" spid="">
              <p:embed/>
              <p:pic>
                <p:nvPicPr>
                  <p:cNvPr id="161" name="Object 219" descr="">
                    <a:hlinkClick r:id="rId101" action="ppaction://hlinksldjump"/>
                  </p:cNvPr>
                  <p:cNvPicPr/>
                  <p:nvPr/>
                </p:nvPicPr>
                <p:blipFill>
                  <a:blip r:embed="rId102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371600" y="26668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upreme Court decision in 1791 declared that the court was the supreme arbitrator of the U.S. Constit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Marbury v. Madiso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371600" y="2666880"/>
            <a:ext cx="63244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upreme Court is the only court that was specifically established by this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U.S. Constit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1791 case about procedural law was the first case ever decided on by the Supreme Cou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est v. Barn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Adams was president for this many te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lien and Sedition Acts were signed into law by Adams in this 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798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is “the right to keep and bear arm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9718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was the job Thomas Jefferson held during the Adam’s administ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Vice Presid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371600" y="106668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iplomatic scandal between France and the United States occurred when the French made concession demands from the U.S. in order to continue peace negoti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the X, Y, Z Affai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ams was the first president to live in which city and buil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Washington D.C. and the President’s Mansion (the White House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7432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rticles of Confederation were ratified on this 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March 1, 1781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44792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der the Articles each state had this many votes in the legislative decision making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ne vo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econd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371600" y="22860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rst president of the Congress of the Confederation was this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Samuel Huntingt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was the first state to ratify the Articles of Confederation on December 16, 177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Virgi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167652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ccomplishment of the Congress of the Confederation meant that the original states had to give up all western land claims clearing the way for new st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orthwest Ordinance of 1787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.S. Historic Document Sign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143000" y="1371600"/>
            <a:ext cx="7162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an was the only delegate to sign the Articles of Confederation, the Declaration of Independence, the U.S. Constitution and the Continental Assoc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Roger Sherm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371600" y="19810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is about how the people have a right to freedom of speech, the press, religion and the right to 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irst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371600" y="21337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states that the people have a right to due process and cannot bear witness against onesel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PhilliesChick</cp:lastModifiedBy>
  <dcterms:modified xsi:type="dcterms:W3CDTF">2009-11-06T21:56:42Z</dcterms:modified>
  <cp:revision>63</cp:revision>
  <dc:subject/>
  <dc:title>No Slide Title</dc:title>
</cp:coreProperties>
</file>