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AC5-90C5-4FBB-89A6-E9497BE0E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3DA-D12D-4BF9-BE13-3A92FE40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1BD-F12F-4A04-9D64-75535801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4CF5-3B6D-457E-8FFC-AD66B3D3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C20-B08D-400A-8B2C-2E8318A5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A7C3-E8F0-4E0E-A1C5-EC1B82BF4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D37-1C6D-467E-BB8B-E4A8C31F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609-0820-47EE-9D9B-5A0A390A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61E-872D-43EA-9590-BD27295B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59D-0FFE-4C8C-86D5-1A01A02B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BBA-6D05-43AB-99D5-14AC2A9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0A5-CFE4-49ED-A902-5CC1F233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9CD-5339-4F3C-87CC-25DBE612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DE3-8E9A-4798-8E1E-ADA921A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A06-E908-4064-8CB4-4BDC489F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324-248E-48A4-8F16-D2A4DBA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CD6-CE5C-4C6B-A97B-B906489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37D-1D60-4DC2-A4DB-3F8DA9C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0B7-C8C7-4C8D-9C72-2A75D75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D4F6-4DBF-4EEB-BD72-99E3E31DE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f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438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everyone has the right to a trial by 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49280" y="207324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the right of protection from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ur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was founded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8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type of government the Federalists believ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trong centralized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founded the Federalist Party and was the Secretary of the Treasury under George Washing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Alexander Hamil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st Federalist presiden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Ada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supported the ratification of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2096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received this percentage of Electoral votes for both his terms as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10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helped quell the Whiskey Rebellion of 1794 in this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took his first oath of office in 1789 at this building in New York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Federal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members of Washington’s first Ca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omas Jefferson, Alexander Hamilton, Henry Knox and Edmund Randol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states were admitted into the Union during  the Washington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Vermont, Kentucky and Tennes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Chief Justice of the Supreme Cour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J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1791 until 1801, the Supreme Court convened in this building in Philadelp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ld City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Bill of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Federa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066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orge Washington Presid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0666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upreme Co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ohn Adams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icles of Confedera-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decision in 1791 declared that the court was the supreme arbitrator of the U.S.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is the only court that was specifically established by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91 case about procedural law was the first case ever decided on by the Supreme Co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st v. Barn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Adams was president for this man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ien and Sedition Acts were signed into law by Adams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9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“the right to keep and bear arm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971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job Thomas Jefferson held during the Adam’s administ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Vic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10666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plomatic scandal between France and the United States occurred when the French made concession demands from the U.S. in order to continue peace negot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X, Y, Z Aff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s was the first president to live in which city and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Washington D.C. and the President’s Mansion (the White Hous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rticles of Confederation were ratifi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March 1, 178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 the Articles each state had this many votes in the legislative decision 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president of the Congress of the Confederation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Samuel Hunt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first state to ratify the Articles of Confederation on December 16, 17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765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complishment of the Congress of the Confederation meant that the original states had to give up all western land claims clearing the way for new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orthwest Ordinance of 178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Historic Document Sig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371600"/>
            <a:ext cx="716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only delegate to sign the Articles of Confederation, the Declaration of Independence, the U.S. Constitution and the Continental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ger Sher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about how the people have a right to freedom of speech, the press, religion and the right to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rst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1337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the people have a right to due process and cannot bear witness against ones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6T21:56:42Z</dcterms:modified>
  <cp:revision>63</cp:revision>
  <dc:subject/>
  <dc:title>No Slide Title</dc:title>
</cp:coreProperties>
</file>