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9ACC-F982-44D5-AE37-1D591B844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723F-79A2-47FB-BF9E-06ED83A2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1587-A695-4F2E-9471-5FA22431C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C37C-E825-4391-9B0A-161B8B333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04A8-C7EB-456E-B0E7-3071A1E11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AFB0-BA79-4699-863F-6D0606CB4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36AC-291A-4516-AEC1-AC90A7B2C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56D-030D-42F8-A40B-D0E0D5D3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C98-D181-4E1C-9413-6FF19E8D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F20-4E15-4871-AF3B-4218D492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EE4-401A-4F7B-AFB1-435C775A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BFF-DF38-47ED-817F-C5204543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55C-8BB5-450A-AF66-CF9C2D4A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1AA-935A-4CF9-B111-6A140B91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5CF-09AD-471B-836C-1F0DCBBE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61A-A836-482C-9EE9-99F07097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C13-DF1E-4C34-8E79-B31BB808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BED-C8DD-436E-8F72-08D00824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508-C1D9-40EB-8D2D-82B85D7B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72B2-9FB5-4865-A63D-E87CBEA08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image" Target="../media/image4.png"/><Relationship Id="rId100" Type="http://schemas.openxmlformats.org/officeDocument/2006/relationships/oleObject" Target="../embeddings/oleObject2.bin"/><Relationship Id="rId101" Type="http://schemas.openxmlformats.org/officeDocument/2006/relationships/slide" Target=""/><Relationship Id="rId102" Type="http://schemas.openxmlformats.org/officeDocument/2006/relationships/image" Target="../media/image5.png"/><Relationship Id="rId103" Type="http://schemas.openxmlformats.org/officeDocument/2006/relationships/slideLayout" Target="../slideLayouts/slideLayout1.xml"/><Relationship Id="rId10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f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371600" y="24382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everyone has the right to a trial by ju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ven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49280" y="2073240"/>
            <a:ext cx="632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guarantees the right of protection from unreasonable searches and seiz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urth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was founded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89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type of government the Federalists believ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strong centralized govern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371600" y="19810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founded the Federalist Party and was the Secretary of the Treasury under George Washing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PART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Alexander Hamil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ast Federalist presiden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Ada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ederalist Party supported the ratification of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371600" y="22096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received this percentage of Electoral votes for both his terms as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100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helped quell the Whiskey Rebellion of 1794 in this sta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shington took his first oath of office in 1789 at this building in New York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s. Sandler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Federal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the members of Washington’s first Cabi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371600" y="22860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ere Thomas Jefferson, Alexander Hamilton, Henry Knox and Edmund Randol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three states were admitted into the Union during  the Washington presid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Vermont, Kentucky and Tennesse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Chief Justice of the Supreme Court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John J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om 1791 until 1801, the Supreme Court convened in this building in Philadelph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ld City H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Bill of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Federa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06668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eorge Washington Presid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0666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Supreme Cou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0666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John Adams Presi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ticles of Confedera-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8"/>
          <p:cNvGraphicFramePr/>
          <p:nvPr/>
        </p:nvGraphicFramePr>
        <p:xfrm>
          <a:off x="1219320" y="0"/>
          <a:ext cx="6669000" cy="99072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8" descr=""/>
                  <p:cNvPicPr/>
                  <p:nvPr/>
                </p:nvPicPr>
                <p:blipFill>
                  <a:blip r:embed="rId99"/>
                  <a:stretch/>
                </p:blipFill>
                <p:spPr>
                  <a:xfrm>
                    <a:off x="1219320" y="0"/>
                    <a:ext cx="6669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100" spid="">
              <p:embed/>
              <p:pic>
                <p:nvPicPr>
                  <p:cNvPr id="161" name="Object 219" descr="">
                    <a:hlinkClick r:id="rId101" action="ppaction://hlinksldjump"/>
                  </p:cNvPr>
                  <p:cNvPicPr/>
                  <p:nvPr/>
                </p:nvPicPr>
                <p:blipFill>
                  <a:blip r:embed="rId102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371600" y="26668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upreme Court decision in 1791 declared that the court was the supreme arbitrator of the U.S. Constit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Marbury v. Madis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371600" y="2666880"/>
            <a:ext cx="6324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preme Court is the only court that was specifically established by this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U.S. Constit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1791 case about procedural law was the first case ever decided on by the Supreme Cou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est v. Barn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hn Adams was president for this many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lien and Sedition Acts were signed into law by Adams in this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798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“the right to keep and bear arm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1600" y="29718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job Thomas Jefferson held during the Adam’s administ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Vice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371600" y="10666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iplomatic scandal between France and the United States occurred when the French made concession demands from the U.S. in order to continue peace negoti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the X, Y, Z Affa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ms was the first president to live in which city and buil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Washington D.C. and the President’s Mansion (the White House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371600" y="27432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rticles of Confederation were ratified on this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as March 1, 178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44792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der the Articles each state had this many votes in the legislative decision making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one v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econd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37160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rst president of the Congress of the Confederation was this 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Samuel Huntingt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first state to ratify the Articles of Confederation on December 16, 17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Virgi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371600" y="167652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ccomplishment of the Congress of the Confederation meant that the original states had to give up all western land claims clearing the way for new st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1371600" y="2514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orthwest Ordinance of 178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.S. Historic Document Sig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1371600"/>
            <a:ext cx="7162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an was the only delegate to sign the Articles of Confederation, the Declaration of Independence, the U.S. Constitution and the Continental Associ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Roger Sherm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371600" y="198108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is about how the people have a right to freedom of speech, the press, religion and the right to 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irst Amend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71600" y="21337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mendment states that the people have a right to due process and cannot bear witness against onesel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PhilliesChick</cp:lastModifiedBy>
  <dcterms:modified xsi:type="dcterms:W3CDTF">2009-11-06T21:56:42Z</dcterms:modified>
  <cp:revision>63</cp:revision>
  <dc:subject/>
  <dc:title>No Slide Title</dc:title>
</cp:coreProperties>
</file>