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DSTHEME2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8F55-3F90-4FB5-88EE-A786819EB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15F9-CBCE-44E1-BC27-6FD0AB4C2A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6410-CBC2-49FD-9455-9922E094FC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3955-DF22-43C9-A2C3-C1F38E385C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CDE5-8585-496F-B771-6898D4101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06A2-EACF-4947-B35D-4D93FF5B35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F62-9CEB-4A06-AC8E-6CEC91C0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AA8-A04B-4859-9BE4-DC3AA9DF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86E-A53F-40AC-9F7E-AFE1E838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F4B-BA67-4F7C-9483-E9EDA8FF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AA2-C619-4E1C-8BC8-D1BF46CF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7C3-796F-48F8-AC76-B520C545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86E-63A2-4C28-8E28-7216BF7A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600-E1DB-4277-9EF6-16AFCFC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2A0-E987-43D4-BA93-0E9A74BD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5CA-8059-4BE1-80AA-43BE8B3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A44-0892-42CA-8561-33DD1FA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BC1-420C-4FAD-887C-51EE5B2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DB08-A637-4940-8159-E551E3DFA73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STHEME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78080" y="1444680"/>
            <a:ext cx="6607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is the battle in which General Robert E. Lee surrenders for the South in 186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Battle of Appomattox Court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ClipArt Placeholder 7" descr="courthouse.jpg"/>
          <p:cNvPicPr/>
          <p:nvPr/>
        </p:nvPicPr>
        <p:blipFill>
          <a:blip r:embed="rId1"/>
          <a:stretch/>
        </p:blipFill>
        <p:spPr>
          <a:xfrm>
            <a:off x="762120" y="205740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of Shiloh occurred on April 6-7, 1862 in this Confederate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enness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7" descr="C:\Users\PhilliesChick\AppData\Local\Microsoft\Windows\Temporary Internet Files\Content.IE5\BDP8W4OO\MCj0189632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to the U.S. Constitution guaranteed the freedom of all sla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ClipArt Placeholder 5" descr="13amendment.jpg"/>
          <p:cNvPicPr/>
          <p:nvPr/>
        </p:nvPicPr>
        <p:blipFill>
          <a:blip r:embed="rId1"/>
          <a:stretch/>
        </p:blipFill>
        <p:spPr>
          <a:xfrm>
            <a:off x="941400" y="182880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prohibited all governments in the U.S. from denying citizens the right to vote based on “race, color, or previous condition of servitu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ClipArt Placeholder 5" descr="15amendment.jpg"/>
          <p:cNvPicPr/>
          <p:nvPr/>
        </p:nvPicPr>
        <p:blipFill>
          <a:blip r:embed="rId1"/>
          <a:stretch/>
        </p:blipFill>
        <p:spPr>
          <a:xfrm>
            <a:off x="506520" y="1905120"/>
            <a:ext cx="372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ct declared that all people born in the U.S. were citizens no matter their race or prior status as a slave or an involuntary serv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Civil Rights Act of 186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ClipArt Placeholder 5" descr="1866act.jpg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stitutional amendment declared that all former slaves were now citizens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ClipArt Placeholder 5" descr="14amendment.jpg"/>
          <p:cNvPicPr/>
          <p:nvPr/>
        </p:nvPicPr>
        <p:blipFill>
          <a:blip r:embed="rId1"/>
          <a:stretch/>
        </p:blipFill>
        <p:spPr>
          <a:xfrm>
            <a:off x="1060560" y="1828800"/>
            <a:ext cx="2977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1872 act removed voting restrictions and office-holding disqualification against the majority of former secessionis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Amnesty Ac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general was the commander in chief of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Robert E. L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ClipArt Placeholder 7" descr="lee.jpg"/>
          <p:cNvPicPr/>
          <p:nvPr/>
        </p:nvPicPr>
        <p:blipFill>
          <a:blip r:embed="rId1"/>
          <a:stretch/>
        </p:blipFill>
        <p:spPr>
          <a:xfrm>
            <a:off x="838080" y="1908000"/>
            <a:ext cx="29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later became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sident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General Ulysses S. Gra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ClipArt Placeholder 7" descr="grant.jpg"/>
          <p:cNvPicPr/>
          <p:nvPr/>
        </p:nvPicPr>
        <p:blipFill>
          <a:blip r:embed="rId1"/>
          <a:stretch/>
        </p:blipFill>
        <p:spPr>
          <a:xfrm>
            <a:off x="990720" y="1981080"/>
            <a:ext cx="281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died from wounds suffered at the Battle of Chancellorsv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Thomas “Stonewall” Jacks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ClipArt Placeholder 7" descr="stonewall.jpg"/>
          <p:cNvPicPr/>
          <p:nvPr/>
        </p:nvPicPr>
        <p:blipFill>
          <a:blip r:embed="rId1"/>
          <a:stretch/>
        </p:blipFill>
        <p:spPr>
          <a:xfrm>
            <a:off x="990720" y="1828800"/>
            <a:ext cx="2784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was known for his “scorched Earth” policy against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William Tecumseh Sherma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ClipArt Placeholder 7" descr="sherman.jpg"/>
          <p:cNvPicPr/>
          <p:nvPr/>
        </p:nvPicPr>
        <p:blipFill>
          <a:blip r:embed="rId1"/>
          <a:stretch/>
        </p:blipFill>
        <p:spPr>
          <a:xfrm>
            <a:off x="1182600" y="2057400"/>
            <a:ext cx="2544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was mortally wounded at the Battle of Yellow Tavern on May 11, 1864 and died the next d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J.E.B. Stua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ClipArt Placeholder 7" descr="jeb.jpg"/>
          <p:cNvPicPr/>
          <p:nvPr/>
        </p:nvPicPr>
        <p:blipFill>
          <a:blip r:embed="rId1"/>
          <a:stretch/>
        </p:blipFill>
        <p:spPr>
          <a:xfrm>
            <a:off x="1371600" y="2101680"/>
            <a:ext cx="2362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state to secede from the Union on December 20, 186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South Caroli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6" descr="C:\Users\PhilliesChick\AppData\Local\Microsoft\Windows\Temporary Internet Files\Content.IE5\NKD1PL6X\MCj0189630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person was the first to successfully assassinate a President of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ohn Wilkes Booth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ClipArt Placeholder 7" descr="jwb.jpg"/>
          <p:cNvPicPr/>
          <p:nvPr/>
        </p:nvPicPr>
        <p:blipFill>
          <a:blip r:embed="rId1"/>
          <a:stretch/>
        </p:blipFill>
        <p:spPr>
          <a:xfrm>
            <a:off x="1163520" y="1905120"/>
            <a:ext cx="270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nd only President of the Confedera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efferson Davi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9" name="ClipArt Placeholder 7" descr="davis.jpg"/>
          <p:cNvPicPr/>
          <p:nvPr/>
        </p:nvPicPr>
        <p:blipFill>
          <a:blip r:embed="rId1"/>
          <a:stretch/>
        </p:blipFill>
        <p:spPr>
          <a:xfrm>
            <a:off x="1119240" y="1905120"/>
            <a:ext cx="2732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battle of the Civil W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frican-American elected to the Sen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Hiram Rhodes Revel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ClipArt Placeholder 7" descr="revels.jpg"/>
          <p:cNvPicPr/>
          <p:nvPr/>
        </p:nvPicPr>
        <p:blipFill>
          <a:blip r:embed="rId1"/>
          <a:stretch/>
        </p:blipFill>
        <p:spPr>
          <a:xfrm>
            <a:off x="846000" y="1981080"/>
            <a:ext cx="3295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state was the first to have an African-American representative in either the Senate or House of Representativ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Louisia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6" descr="C:\Users\PhilliesChick\AppData\Local\Microsoft\Windows\Temporary Internet Files\Content.IE5\BDP8W4OO\MCj0189598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year the Civil War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President Andrew Johnson was impeac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8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Reconstruction Era officially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Fort Sumt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ClipArt Placeholder 7" descr="sumter.jpg"/>
          <p:cNvPicPr/>
          <p:nvPr/>
        </p:nvPicPr>
        <p:blipFill>
          <a:blip r:embed="rId2"/>
          <a:stretch/>
        </p:blipFill>
        <p:spPr>
          <a:xfrm>
            <a:off x="533520" y="2209680"/>
            <a:ext cx="344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first of the Jim Crow laws were enacted in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 to the U.S. Constitution was ratified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attle occurred over the span of three days in July 18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Gettysbur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ClipArt Placeholder 7" descr="gettysburg.jpg"/>
          <p:cNvPicPr/>
          <p:nvPr/>
        </p:nvPicPr>
        <p:blipFill>
          <a:blip r:embed="rId2"/>
          <a:stretch/>
        </p:blipFill>
        <p:spPr>
          <a:xfrm>
            <a:off x="237960" y="2286000"/>
            <a:ext cx="398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Battle of Bull Run is also known by this other nam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First Manassa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ClipArt Placeholder 7" descr="bullrun.jpg"/>
          <p:cNvPicPr/>
          <p:nvPr/>
        </p:nvPicPr>
        <p:blipFill>
          <a:blip r:embed="rId2"/>
          <a:stretch/>
        </p:blipFill>
        <p:spPr>
          <a:xfrm>
            <a:off x="609480" y="2133720"/>
            <a:ext cx="3452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PhilliesChick</dc:creator>
  <dc:description/>
  <dc:language>en-US</dc:language>
  <cp:lastModifiedBy>Information Systems</cp:lastModifiedBy>
  <dcterms:modified xsi:type="dcterms:W3CDTF">2009-11-05T22:02:08Z</dcterms:modified>
  <cp:revision>35</cp:revision>
  <dc:subject/>
  <dc:title>PowerPoint Presentation</dc:title>
</cp:coreProperties>
</file>