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DSTHEME2.WAV" ContentType="audio/x-wav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6AD9-CEF0-491E-9E95-F2665D015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E8BC-9897-4E09-BC24-6D8BF15EB9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DF8D-C072-46F3-BD66-1C0940279F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revise this section.  Think about which rules you want to use before you play.  Revise the rules accordingly.  Don’t move past this screen until the team names &amp; buzzer sounds are decided.  Decide who keeps score &amp; who is the ju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7AE1-D12C-48EC-971D-5B7F040D46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ame board.  Change each of the categories at the top of the five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588A-AA89-4900-B56F-BED582E421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“Category 1” for the Category you’ve chosen on the previous slide.  Then Click &amp; Drag to select “Type your question(answer) here.” Type the new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7D22-D5FC-47B2-B041-852459C8C8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out Category 1 for the category you’ve chosen.  Change out the Answer above with the correct answer.  Double-click on left to add clipart to your page.  Click on the U (action button) to take you back to the game board.  It’s important to click on this to take you back…otherwise you go to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E84-0FC4-4C4D-B52F-87939B27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FF8-1B8E-4AAE-A323-3BAF493D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5B7-6A32-4B70-A524-406E9E40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925-38AB-4474-BD79-73C7C329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3638-4222-412B-9AA3-85AEEAC9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0AB-3A73-4CBF-8313-FD757155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79A-BC38-43AE-B971-661E1C71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31E-A1CF-419D-B18C-E6826A34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3D4-77E7-4859-8162-737C9C40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41B-18F1-4F88-AE0D-0E757D11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0E82-11E7-4A8E-A891-F49D9C3B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801D-F653-4441-9F22-A5811736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D708-1F20-4A7E-8242-FD8F4FFCB880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STHEME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52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590920" y="2743200"/>
            <a:ext cx="40384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00200" y="533520"/>
            <a:ext cx="6248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286000" y="5791320"/>
            <a:ext cx="4648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Rectangle 6" descr=""/>
          <p:cNvPicPr/>
          <p:nvPr/>
        </p:nvPicPr>
        <p:blipFill>
          <a:blip r:embed="rId1"/>
          <a:stretch/>
        </p:blipFill>
        <p:spPr>
          <a:xfrm>
            <a:off x="1378080" y="1444680"/>
            <a:ext cx="6607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STHEM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is the battle in which General Robert E. Lee surrenders for the South in 186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Battle of Appomattox Court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ClipArt Placeholder 7" descr="courthouse.jpg"/>
          <p:cNvPicPr/>
          <p:nvPr/>
        </p:nvPicPr>
        <p:blipFill>
          <a:blip r:embed="rId1"/>
          <a:stretch/>
        </p:blipFill>
        <p:spPr>
          <a:xfrm>
            <a:off x="762120" y="2057400"/>
            <a:ext cx="3352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Battle of Shiloh occurred on April 6-7, 1862 in this Confederate st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ennesse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Picture 7" descr="C:\Users\PhilliesChick\AppData\Local\Microsoft\Windows\Temporary Internet Files\Content.IE5\BDP8W4OO\MCj0189632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mendment to the U.S. Constitution guaranteed the freedom of all sla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5" name="ClipArt Placeholder 5" descr="13amendment.jpg"/>
          <p:cNvPicPr/>
          <p:nvPr/>
        </p:nvPicPr>
        <p:blipFill>
          <a:blip r:embed="rId1"/>
          <a:stretch/>
        </p:blipFill>
        <p:spPr>
          <a:xfrm>
            <a:off x="941400" y="1828800"/>
            <a:ext cx="3014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mendment prohibited all governments in the U.S. from denying citizens the right to vote based on “race, color, or previous condition of servitu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2" name="ClipArt Placeholder 5" descr="15amendment.jpg"/>
          <p:cNvPicPr/>
          <p:nvPr/>
        </p:nvPicPr>
        <p:blipFill>
          <a:blip r:embed="rId1"/>
          <a:stretch/>
        </p:blipFill>
        <p:spPr>
          <a:xfrm>
            <a:off x="506520" y="1905120"/>
            <a:ext cx="3722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ct declared that all people born in the U.S. were citizens no matter their race or prior status as a slave or an involuntary serva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Civil Rights Act of 1866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9" name="ClipArt Placeholder 5" descr="1866act.jpg"/>
          <p:cNvPicPr/>
          <p:nvPr/>
        </p:nvPicPr>
        <p:blipFill>
          <a:blip r:embed="rId1"/>
          <a:stretch/>
        </p:blipFill>
        <p:spPr>
          <a:xfrm>
            <a:off x="609480" y="213372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ules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ways answer in the form of a ques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am names &amp; buzzer sounds read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ints to be taken away for wrong answers?  (Decide as a class…change this slide accordingly for future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stitutional amendment declared that all former slaves were now citizens of the United St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ClipArt Placeholder 5" descr="14amendment.jpg"/>
          <p:cNvPicPr/>
          <p:nvPr/>
        </p:nvPicPr>
        <p:blipFill>
          <a:blip r:embed="rId1"/>
          <a:stretch/>
        </p:blipFill>
        <p:spPr>
          <a:xfrm>
            <a:off x="1060560" y="1828800"/>
            <a:ext cx="29779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1872 act removed voting restrictions and office-holding disqualification against the majority of former secessionis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Amnesty Ac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general was the commander in chief of the Confederate Arm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Robert E. Le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ClipArt Placeholder 7" descr="lee.jpg"/>
          <p:cNvPicPr/>
          <p:nvPr/>
        </p:nvPicPr>
        <p:blipFill>
          <a:blip r:embed="rId1"/>
          <a:stretch/>
        </p:blipFill>
        <p:spPr>
          <a:xfrm>
            <a:off x="838080" y="1908000"/>
            <a:ext cx="2924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Union general later became the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President of the United St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General Ulysses S. Gra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ClipArt Placeholder 7" descr="grant.jpg"/>
          <p:cNvPicPr/>
          <p:nvPr/>
        </p:nvPicPr>
        <p:blipFill>
          <a:blip r:embed="rId1"/>
          <a:stretch/>
        </p:blipFill>
        <p:spPr>
          <a:xfrm>
            <a:off x="990720" y="1981080"/>
            <a:ext cx="2819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federate general died from wounds suffered at the Battle of Chancellorsvil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Thomas “Stonewall” Jacks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ClipArt Placeholder 7" descr="stonewall.jpg"/>
          <p:cNvPicPr/>
          <p:nvPr/>
        </p:nvPicPr>
        <p:blipFill>
          <a:blip r:embed="rId1"/>
          <a:stretch/>
        </p:blipFill>
        <p:spPr>
          <a:xfrm>
            <a:off x="990720" y="1828800"/>
            <a:ext cx="2784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094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094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094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094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6094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tt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22096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s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38098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54100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70102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33"/>
          <p:cNvSpPr/>
          <p:nvPr/>
        </p:nvSpPr>
        <p:spPr>
          <a:xfrm>
            <a:off x="22096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22096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22096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22096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22096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38"/>
          <p:cNvSpPr/>
          <p:nvPr/>
        </p:nvSpPr>
        <p:spPr>
          <a:xfrm>
            <a:off x="38098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38098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40"/>
          <p:cNvSpPr/>
          <p:nvPr/>
        </p:nvSpPr>
        <p:spPr>
          <a:xfrm>
            <a:off x="38098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38098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38098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43"/>
          <p:cNvSpPr/>
          <p:nvPr/>
        </p:nvSpPr>
        <p:spPr>
          <a:xfrm>
            <a:off x="54100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44"/>
          <p:cNvSpPr/>
          <p:nvPr/>
        </p:nvSpPr>
        <p:spPr>
          <a:xfrm>
            <a:off x="54100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45"/>
          <p:cNvSpPr/>
          <p:nvPr/>
        </p:nvSpPr>
        <p:spPr>
          <a:xfrm>
            <a:off x="54100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6"/>
          <p:cNvSpPr/>
          <p:nvPr/>
        </p:nvSpPr>
        <p:spPr>
          <a:xfrm>
            <a:off x="54100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47"/>
          <p:cNvSpPr/>
          <p:nvPr/>
        </p:nvSpPr>
        <p:spPr>
          <a:xfrm>
            <a:off x="54100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70102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49"/>
          <p:cNvSpPr/>
          <p:nvPr/>
        </p:nvSpPr>
        <p:spPr>
          <a:xfrm>
            <a:off x="70102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50"/>
          <p:cNvSpPr/>
          <p:nvPr/>
        </p:nvSpPr>
        <p:spPr>
          <a:xfrm>
            <a:off x="70102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1"/>
          <p:cNvSpPr/>
          <p:nvPr/>
        </p:nvSpPr>
        <p:spPr>
          <a:xfrm>
            <a:off x="70102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2"/>
          <p:cNvSpPr/>
          <p:nvPr/>
        </p:nvSpPr>
        <p:spPr>
          <a:xfrm>
            <a:off x="70102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Union general was known for his “scorched Earth” policy against the Confederate Arm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William Tecumseh Sherma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ClipArt Placeholder 7" descr="sherman.jpg"/>
          <p:cNvPicPr/>
          <p:nvPr/>
        </p:nvPicPr>
        <p:blipFill>
          <a:blip r:embed="rId1"/>
          <a:stretch/>
        </p:blipFill>
        <p:spPr>
          <a:xfrm>
            <a:off x="1182600" y="2057400"/>
            <a:ext cx="2544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federate general was mortally wounded at the Battle of Yellow Tavern on May 11, 1864 and died the next da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J.E.B. Stuar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ClipArt Placeholder 7" descr="jeb.jpg"/>
          <p:cNvPicPr/>
          <p:nvPr/>
        </p:nvPicPr>
        <p:blipFill>
          <a:blip r:embed="rId1"/>
          <a:stretch/>
        </p:blipFill>
        <p:spPr>
          <a:xfrm>
            <a:off x="1371600" y="2101680"/>
            <a:ext cx="2362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first state to secede from the Union on December 20, 186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South Carolina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5" name="Picture 6" descr="C:\Users\PhilliesChick\AppData\Local\Microsoft\Windows\Temporary Internet Files\Content.IE5\NKD1PL6X\MCj0189630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person was the first to successfully assassinate a President of the U.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John Wilkes Booth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2" name="ClipArt Placeholder 7" descr="jwb.jpg"/>
          <p:cNvPicPr/>
          <p:nvPr/>
        </p:nvPicPr>
        <p:blipFill>
          <a:blip r:embed="rId1"/>
          <a:stretch/>
        </p:blipFill>
        <p:spPr>
          <a:xfrm>
            <a:off x="1163520" y="1905120"/>
            <a:ext cx="2702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man was the first and only President of the Confederac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Jefferson Davi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9" name="ClipArt Placeholder 7" descr="davis.jpg"/>
          <p:cNvPicPr/>
          <p:nvPr/>
        </p:nvPicPr>
        <p:blipFill>
          <a:blip r:embed="rId1"/>
          <a:stretch/>
        </p:blipFill>
        <p:spPr>
          <a:xfrm>
            <a:off x="1119240" y="1905120"/>
            <a:ext cx="27320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first battle of the Civil Wa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man was the first African-American elected to the Sen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Hiram Rhodes Revel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6" name="ClipArt Placeholder 7" descr="revels.jpg"/>
          <p:cNvPicPr/>
          <p:nvPr/>
        </p:nvPicPr>
        <p:blipFill>
          <a:blip r:embed="rId1"/>
          <a:stretch/>
        </p:blipFill>
        <p:spPr>
          <a:xfrm>
            <a:off x="846000" y="1981080"/>
            <a:ext cx="3295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state was the first to have an African-American representative in either the Senate or House of Representative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Louisiana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3" name="Picture 6" descr="C:\Users\PhilliesChick\AppData\Local\Microsoft\Windows\Temporary Internet Files\Content.IE5\BDP8W4OO\MCj0189598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year the Civil War end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65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President Andrew Johnson was impeach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68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Reconstruction Era officially end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7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was the Battle of Fort Sumt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ClipArt Placeholder 7" descr="sumter.jpg"/>
          <p:cNvPicPr/>
          <p:nvPr/>
        </p:nvPicPr>
        <p:blipFill>
          <a:blip r:embed="rId2"/>
          <a:stretch/>
        </p:blipFill>
        <p:spPr>
          <a:xfrm>
            <a:off x="533520" y="2209680"/>
            <a:ext cx="3443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first of the Jim Crow laws were enacted in the U.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6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 to the U.S. Constitution was ratified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0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battle occurred over the span of three days in July 186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5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was the Battle of Gettysbur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ClipArt Placeholder 7" descr="gettysburg.jpg"/>
          <p:cNvPicPr/>
          <p:nvPr/>
        </p:nvPicPr>
        <p:blipFill>
          <a:blip r:embed="rId2"/>
          <a:stretch/>
        </p:blipFill>
        <p:spPr>
          <a:xfrm>
            <a:off x="237960" y="2286000"/>
            <a:ext cx="3989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First Battle of Bull Run is also known by this other nam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2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First Manassa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ClipArt Placeholder 7" descr="bullrun.jpg"/>
          <p:cNvPicPr/>
          <p:nvPr/>
        </p:nvPicPr>
        <p:blipFill>
          <a:blip r:embed="rId2"/>
          <a:stretch/>
        </p:blipFill>
        <p:spPr>
          <a:xfrm>
            <a:off x="609480" y="2133720"/>
            <a:ext cx="3452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5:45:55Z</dcterms:created>
  <dc:creator>PhilliesChick</dc:creator>
  <dc:description/>
  <dc:language>en-US</dc:language>
  <cp:lastModifiedBy>Information Systems</cp:lastModifiedBy>
  <dcterms:modified xsi:type="dcterms:W3CDTF">2009-11-05T22:02:08Z</dcterms:modified>
  <cp:revision>35</cp:revision>
  <dc:subject/>
  <dc:title>PowerPoint Presentation</dc:title>
</cp:coreProperties>
</file>