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DSTHEME2.WAV" ContentType="audio/x-wav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3A0A-4059-4BB1-A723-5EF18E6E6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A40F-46D2-490B-88A7-CE6844D819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C206-A3E2-4DC7-A89B-11CB992F24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7F4C-989B-4BA3-969E-437EE2CA81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1460-7C97-4F54-A7F2-17513EE519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D191-AB7B-4469-B661-9EC846FA11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936-143B-4A21-BA19-D733AD16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9A3-909C-4C1C-B7C7-A1B1CC47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31F-7658-43CA-A1AB-2A68DF41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091-AA09-4653-92E7-D23E9622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C58-7B1B-4334-A54C-4E992FE2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125-CB85-4A72-8288-A3BC96F7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1E1-202C-4DE6-935E-E9ABCB1B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A2A-0F38-4BE9-BCD4-85FC4B91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2B7-961E-48DA-9CF7-33532A1E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142-D846-400D-9D07-612A0B6E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FDE-9270-491A-983C-3281571C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895-8354-4FF6-973A-8C3F9F32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DD9B-03E9-40D3-AC91-BB9B9226516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STHEME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378080" y="1444680"/>
            <a:ext cx="6607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is the battle in which General Robert E. Lee surrenders for the South in 186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Battle of Appomattox Court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ClipArt Placeholder 7" descr="courthouse.jpg"/>
          <p:cNvPicPr/>
          <p:nvPr/>
        </p:nvPicPr>
        <p:blipFill>
          <a:blip r:embed="rId1"/>
          <a:stretch/>
        </p:blipFill>
        <p:spPr>
          <a:xfrm>
            <a:off x="762120" y="2057400"/>
            <a:ext cx="335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attle of Shiloh occurred on April 6-7, 1862 in this Confederate 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enness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7" descr="C:\Users\PhilliesChick\AppData\Local\Microsoft\Windows\Temporary Internet Files\Content.IE5\BDP8W4OO\MCj0189632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to the U.S. Constitution guaranteed the freedom of all sla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" name="ClipArt Placeholder 5" descr="13amendment.jpg"/>
          <p:cNvPicPr/>
          <p:nvPr/>
        </p:nvPicPr>
        <p:blipFill>
          <a:blip r:embed="rId1"/>
          <a:stretch/>
        </p:blipFill>
        <p:spPr>
          <a:xfrm>
            <a:off x="941400" y="1828800"/>
            <a:ext cx="3014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prohibited all governments in the U.S. from denying citizens the right to vote based on “race, color, or previous condition of servitu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ClipArt Placeholder 5" descr="15amendment.jpg"/>
          <p:cNvPicPr/>
          <p:nvPr/>
        </p:nvPicPr>
        <p:blipFill>
          <a:blip r:embed="rId1"/>
          <a:stretch/>
        </p:blipFill>
        <p:spPr>
          <a:xfrm>
            <a:off x="506520" y="1905120"/>
            <a:ext cx="3722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ct declared that all people born in the U.S. were citizens no matter their race or prior status as a slave or an involuntary serv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Civil Rights Act of 186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9" name="ClipArt Placeholder 5" descr="1866act.jpg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stitutional amendment declared that all former slaves were now citizens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ClipArt Placeholder 5" descr="14amendment.jpg"/>
          <p:cNvPicPr/>
          <p:nvPr/>
        </p:nvPicPr>
        <p:blipFill>
          <a:blip r:embed="rId1"/>
          <a:stretch/>
        </p:blipFill>
        <p:spPr>
          <a:xfrm>
            <a:off x="1060560" y="1828800"/>
            <a:ext cx="2977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1872 act removed voting restrictions and office-holding disqualification against the majority of former secessionis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Amnesty Ac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general was the commander in chief of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Robert E. L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ClipArt Placeholder 7" descr="lee.jpg"/>
          <p:cNvPicPr/>
          <p:nvPr/>
        </p:nvPicPr>
        <p:blipFill>
          <a:blip r:embed="rId1"/>
          <a:stretch/>
        </p:blipFill>
        <p:spPr>
          <a:xfrm>
            <a:off x="838080" y="1908000"/>
            <a:ext cx="29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later became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resident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General Ulysses S. Gra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ClipArt Placeholder 7" descr="grant.jpg"/>
          <p:cNvPicPr/>
          <p:nvPr/>
        </p:nvPicPr>
        <p:blipFill>
          <a:blip r:embed="rId1"/>
          <a:stretch/>
        </p:blipFill>
        <p:spPr>
          <a:xfrm>
            <a:off x="990720" y="1981080"/>
            <a:ext cx="2819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died from wounds suffered at the Battle of Chancellorsv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Thomas “Stonewall” Jacks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ClipArt Placeholder 7" descr="stonewall.jpg"/>
          <p:cNvPicPr/>
          <p:nvPr/>
        </p:nvPicPr>
        <p:blipFill>
          <a:blip r:embed="rId1"/>
          <a:stretch/>
        </p:blipFill>
        <p:spPr>
          <a:xfrm>
            <a:off x="990720" y="1828800"/>
            <a:ext cx="2784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s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was known for his “scorched Earth” policy against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William Tecumseh Sherma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ClipArt Placeholder 7" descr="sherman.jpg"/>
          <p:cNvPicPr/>
          <p:nvPr/>
        </p:nvPicPr>
        <p:blipFill>
          <a:blip r:embed="rId1"/>
          <a:stretch/>
        </p:blipFill>
        <p:spPr>
          <a:xfrm>
            <a:off x="1182600" y="2057400"/>
            <a:ext cx="2544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was mortally wounded at the Battle of Yellow Tavern on May 11, 1864 and died the next da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J.E.B. Stuar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ClipArt Placeholder 7" descr="jeb.jpg"/>
          <p:cNvPicPr/>
          <p:nvPr/>
        </p:nvPicPr>
        <p:blipFill>
          <a:blip r:embed="rId1"/>
          <a:stretch/>
        </p:blipFill>
        <p:spPr>
          <a:xfrm>
            <a:off x="1371600" y="2101680"/>
            <a:ext cx="2362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state to secede from the Union on December 20, 186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South Caroli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6" descr="C:\Users\PhilliesChick\AppData\Local\Microsoft\Windows\Temporary Internet Files\Content.IE5\NKD1PL6X\MCj0189630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person was the first to successfully assassinate a President of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ohn Wilkes Booth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ClipArt Placeholder 7" descr="jwb.jpg"/>
          <p:cNvPicPr/>
          <p:nvPr/>
        </p:nvPicPr>
        <p:blipFill>
          <a:blip r:embed="rId1"/>
          <a:stretch/>
        </p:blipFill>
        <p:spPr>
          <a:xfrm>
            <a:off x="1163520" y="1905120"/>
            <a:ext cx="2702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nd only President of the Confedera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efferson Davi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9" name="ClipArt Placeholder 7" descr="davis.jpg"/>
          <p:cNvPicPr/>
          <p:nvPr/>
        </p:nvPicPr>
        <p:blipFill>
          <a:blip r:embed="rId1"/>
          <a:stretch/>
        </p:blipFill>
        <p:spPr>
          <a:xfrm>
            <a:off x="1119240" y="1905120"/>
            <a:ext cx="2732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battle of the Civil W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frican-American elected to the Sen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Hiram Rhodes Revel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6" name="ClipArt Placeholder 7" descr="revels.jpg"/>
          <p:cNvPicPr/>
          <p:nvPr/>
        </p:nvPicPr>
        <p:blipFill>
          <a:blip r:embed="rId1"/>
          <a:stretch/>
        </p:blipFill>
        <p:spPr>
          <a:xfrm>
            <a:off x="846000" y="1981080"/>
            <a:ext cx="3295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state was the first to have an African-American representative in either the Senate or House of Representativ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Louisia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6" descr="C:\Users\PhilliesChick\AppData\Local\Microsoft\Windows\Temporary Internet Files\Content.IE5\BDP8W4OO\MCj0189598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year the Civil War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5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President Andrew Johnson was impeach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8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Reconstruction Era officially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7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Fort Sumt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ClipArt Placeholder 7" descr="sumter.jpg"/>
          <p:cNvPicPr/>
          <p:nvPr/>
        </p:nvPicPr>
        <p:blipFill>
          <a:blip r:embed="rId2"/>
          <a:stretch/>
        </p:blipFill>
        <p:spPr>
          <a:xfrm>
            <a:off x="533520" y="2209680"/>
            <a:ext cx="3443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first of the Jim Crow laws were enacted in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 to the U.S. Constitution was ratified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0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battle occurred over the span of three days in July 186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Gettysbur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ClipArt Placeholder 7" descr="gettysburg.jpg"/>
          <p:cNvPicPr/>
          <p:nvPr/>
        </p:nvPicPr>
        <p:blipFill>
          <a:blip r:embed="rId2"/>
          <a:stretch/>
        </p:blipFill>
        <p:spPr>
          <a:xfrm>
            <a:off x="237960" y="2286000"/>
            <a:ext cx="398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irst Battle of Bull Run is also known by this other nam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First Manassa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ClipArt Placeholder 7" descr="bullrun.jpg"/>
          <p:cNvPicPr/>
          <p:nvPr/>
        </p:nvPicPr>
        <p:blipFill>
          <a:blip r:embed="rId2"/>
          <a:stretch/>
        </p:blipFill>
        <p:spPr>
          <a:xfrm>
            <a:off x="609480" y="2133720"/>
            <a:ext cx="3452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>PhilliesChick</dc:creator>
  <dc:description/>
  <dc:language>en-US</dc:language>
  <cp:lastModifiedBy>Information Systems</cp:lastModifiedBy>
  <dcterms:modified xsi:type="dcterms:W3CDTF">2009-11-05T22:02:08Z</dcterms:modified>
  <cp:revision>35</cp:revision>
  <dc:subject/>
  <dc:title>PowerPoint Presentation</dc:title>
</cp:coreProperties>
</file>