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DSTHEME2.WAV" ContentType="audio/x-wav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AA75-3690-43B3-AFE3-DB5295FC6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DCBA-C70B-4A26-9B19-BC12E05D14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F9ED-AF79-4662-8262-2386FFFA93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07BB-EFBA-411C-A9FE-DD164462D9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D967-66C1-4E14-8100-50FDE1212F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85A7-CBAC-40EC-8986-91413030B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599-2CEF-4917-9BE5-7106186E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A7F-E81B-4080-BBA8-95D6F639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32A-2DDA-424C-8AAD-A69992A0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5A7-1F75-413B-A842-5B8C0932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8AF-2568-40A6-9063-310E6309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881-1114-4C3A-89B9-812388BB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7D2-E71C-493F-8AA9-98AF12BA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904-3DE7-413F-8F3A-17C09F94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86D-EE83-4128-B38E-7424563B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6CC-8A95-4F0A-A31A-927F322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A38-F8C7-437C-9F00-EA142439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13B-DE62-4448-8E86-12110246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9F3A-875C-4862-8382-9D470B82750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STHEME2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378080" y="1444680"/>
            <a:ext cx="6607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is the battle in which General Robert E. Lee surrenders for the South in 186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Battle of Appomattox Court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1" name="ClipArt Placeholder 7" descr="courthouse.jpg"/>
          <p:cNvPicPr/>
          <p:nvPr/>
        </p:nvPicPr>
        <p:blipFill>
          <a:blip r:embed="rId1"/>
          <a:stretch/>
        </p:blipFill>
        <p:spPr>
          <a:xfrm>
            <a:off x="762120" y="2057400"/>
            <a:ext cx="3352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Battle of Shiloh occurred on April 6-7, 1862 in this Confederate 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enness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7" descr="C:\Users\PhilliesChick\AppData\Local\Microsoft\Windows\Temporary Internet Files\Content.IE5\BDP8W4OO\MCj0189632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to the U.S. Constitution guaranteed the freedom of all sla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5" name="ClipArt Placeholder 5" descr="13amendment.jpg"/>
          <p:cNvPicPr/>
          <p:nvPr/>
        </p:nvPicPr>
        <p:blipFill>
          <a:blip r:embed="rId1"/>
          <a:stretch/>
        </p:blipFill>
        <p:spPr>
          <a:xfrm>
            <a:off x="941400" y="1828800"/>
            <a:ext cx="3014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mendment prohibited all governments in the U.S. from denying citizens the right to vote based on “race, color, or previous condition of servitu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ClipArt Placeholder 5" descr="15amendment.jpg"/>
          <p:cNvPicPr/>
          <p:nvPr/>
        </p:nvPicPr>
        <p:blipFill>
          <a:blip r:embed="rId1"/>
          <a:stretch/>
        </p:blipFill>
        <p:spPr>
          <a:xfrm>
            <a:off x="506520" y="1905120"/>
            <a:ext cx="3722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act declared that all people born in the U.S. were citizens no matter their race or prior status as a slave or an involuntary serv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Civil Rights Act of 186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9" name="ClipArt Placeholder 5" descr="1866act.jpg"/>
          <p:cNvPicPr/>
          <p:nvPr/>
        </p:nvPicPr>
        <p:blipFill>
          <a:blip r:embed="rId1"/>
          <a:stretch/>
        </p:blipFill>
        <p:spPr>
          <a:xfrm>
            <a:off x="609480" y="21337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stitutional amendment declared that all former slaves were now citizens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6" name="ClipArt Placeholder 5" descr="14amendment.jpg"/>
          <p:cNvPicPr/>
          <p:nvPr/>
        </p:nvPicPr>
        <p:blipFill>
          <a:blip r:embed="rId1"/>
          <a:stretch/>
        </p:blipFill>
        <p:spPr>
          <a:xfrm>
            <a:off x="1060560" y="1828800"/>
            <a:ext cx="29779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1872 act removed voting restrictions and office-holding disqualification against the majority of former secessionis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Amnesty Ac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general was the commander in chief of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Robert E. Le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ClipArt Placeholder 7" descr="lee.jpg"/>
          <p:cNvPicPr/>
          <p:nvPr/>
        </p:nvPicPr>
        <p:blipFill>
          <a:blip r:embed="rId1"/>
          <a:stretch/>
        </p:blipFill>
        <p:spPr>
          <a:xfrm>
            <a:off x="838080" y="1908000"/>
            <a:ext cx="2924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later became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President of the United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General Ulysses S. Gran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ClipArt Placeholder 7" descr="grant.jpg"/>
          <p:cNvPicPr/>
          <p:nvPr/>
        </p:nvPicPr>
        <p:blipFill>
          <a:blip r:embed="rId1"/>
          <a:stretch/>
        </p:blipFill>
        <p:spPr>
          <a:xfrm>
            <a:off x="990720" y="1981080"/>
            <a:ext cx="2819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died from wounds suffered at the Battle of Chancellorsvil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Thomas “Stonewall” Jacks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ClipArt Placeholder 7" descr="stonewall.jpg"/>
          <p:cNvPicPr/>
          <p:nvPr/>
        </p:nvPicPr>
        <p:blipFill>
          <a:blip r:embed="rId1"/>
          <a:stretch/>
        </p:blipFill>
        <p:spPr>
          <a:xfrm>
            <a:off x="990720" y="1828800"/>
            <a:ext cx="2784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s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Union general was known for his “scorched Earth” policy against the Confederate Arm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William Tecumseh Sherma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ClipArt Placeholder 7" descr="sherman.jpg"/>
          <p:cNvPicPr/>
          <p:nvPr/>
        </p:nvPicPr>
        <p:blipFill>
          <a:blip r:embed="rId1"/>
          <a:stretch/>
        </p:blipFill>
        <p:spPr>
          <a:xfrm>
            <a:off x="1182600" y="2057400"/>
            <a:ext cx="2544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Confederate general was mortally wounded at the Battle of Yellow Tavern on May 11, 1864 and died the next da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General J.E.B. Stuar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8" name="ClipArt Placeholder 7" descr="jeb.jpg"/>
          <p:cNvPicPr/>
          <p:nvPr/>
        </p:nvPicPr>
        <p:blipFill>
          <a:blip r:embed="rId1"/>
          <a:stretch/>
        </p:blipFill>
        <p:spPr>
          <a:xfrm>
            <a:off x="1371600" y="2101680"/>
            <a:ext cx="2362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state to secede from the Union on December 20, 186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South Caroli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5" name="Picture 6" descr="C:\Users\PhilliesChick\AppData\Local\Microsoft\Windows\Temporary Internet Files\Content.IE5\NKD1PL6X\MCj0189630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person was the first to successfully assassinate a President of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ohn Wilkes Booth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2" name="ClipArt Placeholder 7" descr="jwb.jpg"/>
          <p:cNvPicPr/>
          <p:nvPr/>
        </p:nvPicPr>
        <p:blipFill>
          <a:blip r:embed="rId1"/>
          <a:stretch/>
        </p:blipFill>
        <p:spPr>
          <a:xfrm>
            <a:off x="1163520" y="1905120"/>
            <a:ext cx="27021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nd only President of the Confederac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Jefferson Davi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9" name="ClipArt Placeholder 7" descr="davis.jpg"/>
          <p:cNvPicPr/>
          <p:nvPr/>
        </p:nvPicPr>
        <p:blipFill>
          <a:blip r:embed="rId1"/>
          <a:stretch/>
        </p:blipFill>
        <p:spPr>
          <a:xfrm>
            <a:off x="1119240" y="1905120"/>
            <a:ext cx="2732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first battle of the Civil W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man was the first African-American elected to the Sen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Hiram Rhodes Revel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6" name="ClipArt Placeholder 7" descr="revels.jpg"/>
          <p:cNvPicPr/>
          <p:nvPr/>
        </p:nvPicPr>
        <p:blipFill>
          <a:blip r:embed="rId1"/>
          <a:stretch/>
        </p:blipFill>
        <p:spPr>
          <a:xfrm>
            <a:off x="846000" y="1981080"/>
            <a:ext cx="3295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state was the first to have an African-American representative in either the Senate or House of Representative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Louisia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6" descr="C:\Users\PhilliesChick\AppData\Local\Microsoft\Windows\Temporary Internet Files\Content.IE5\BDP8W4OO\MCj01895980000[1].jpg"/>
          <p:cNvPicPr/>
          <p:nvPr/>
        </p:nvPicPr>
        <p:blipFill>
          <a:blip r:embed="rId1"/>
          <a:stretch/>
        </p:blipFill>
        <p:spPr>
          <a:xfrm>
            <a:off x="685800" y="254304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was the year the Civil War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5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President Andrew Johnson was impeach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68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Reconstruction Era officially en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7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Fort Sumt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ClipArt Placeholder 7" descr="sumter.jpg"/>
          <p:cNvPicPr/>
          <p:nvPr/>
        </p:nvPicPr>
        <p:blipFill>
          <a:blip r:embed="rId2"/>
          <a:stretch/>
        </p:blipFill>
        <p:spPr>
          <a:xfrm>
            <a:off x="533520" y="2209680"/>
            <a:ext cx="3443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first of the Jim Crow laws were enacted in the U.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6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this year the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mendment to the U.S. Constitution was ratified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1870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battle occurred over the span of three days in July 186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was the Battle of Gettysbur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ClipArt Placeholder 7" descr="gettysburg.jpg"/>
          <p:cNvPicPr/>
          <p:nvPr/>
        </p:nvPicPr>
        <p:blipFill>
          <a:blip r:embed="rId2"/>
          <a:stretch/>
        </p:blipFill>
        <p:spPr>
          <a:xfrm>
            <a:off x="237960" y="2286000"/>
            <a:ext cx="398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irst Battle of Bull Run is also known by this other nam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2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First Manassa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ClipArt Placeholder 7" descr="bullrun.jpg"/>
          <p:cNvPicPr/>
          <p:nvPr/>
        </p:nvPicPr>
        <p:blipFill>
          <a:blip r:embed="rId2"/>
          <a:stretch/>
        </p:blipFill>
        <p:spPr>
          <a:xfrm>
            <a:off x="609480" y="2133720"/>
            <a:ext cx="3452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>PhilliesChick</dc:creator>
  <dc:description/>
  <dc:language>en-US</dc:language>
  <cp:lastModifiedBy>Information Systems</cp:lastModifiedBy>
  <dcterms:modified xsi:type="dcterms:W3CDTF">2009-11-05T22:02:08Z</dcterms:modified>
  <cp:revision>35</cp:revision>
  <dc:subject/>
  <dc:title>PowerPoint Presentation</dc:title>
</cp:coreProperties>
</file>